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73571-0161-40BC-A81E-AA5DF44F9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45AE-A0A7-4621-9CF0-CEE8C829F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E5F0D-8546-448D-A6EA-535242820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9B0C3-BDB1-431D-8456-AD709C286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88D85-262D-4532-B35C-E377D8B4A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5E985-DFC4-4348-9901-D1A336F05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697DF-0F18-4B89-A351-AAB9E5FCF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42B77-C461-4122-B7F2-814601272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B1062-EEA2-43A5-975B-81A281736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6BE95-D85E-4302-B9CB-6D472A90A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7511F-6C49-4E8B-AA4E-60659BEF7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AD90B-1E3A-45B9-B192-4F492D141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D7DB0-3824-4D5B-833A-0D8209015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38C76-B0E4-4F3A-89B8-BC605FC1A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BF0EF-0A78-4E28-B353-CD9240640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4A5CE-DD44-4BDB-A23A-297313358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5DE76-4265-4738-B7C8-29ADD9B03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64147-1FF8-4251-908E-8BCAED6EE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5F566-9C0B-46E2-832A-C66315058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479EB-FDC1-4045-BEDF-EB34B79BC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552AA-FDE9-4868-A2D9-57DFA8B90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160F9-65F6-470D-B29F-D5062A44B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5371-EA86-47EC-998C-93089C0FC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0AC4B-1FBB-4633-AB72-FD21206ED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7953480" y="0"/>
              <a:ext cx="1203120" cy="6858000"/>
            </a:xfrm>
            <a:prstGeom prst="rect">
              <a:avLst/>
            </a:prstGeom>
            <a:gradFill rotWithShape="0">
              <a:gsLst>
                <a:gs pos="0">
                  <a:srgbClr val="a27c36"/>
                </a:gs>
                <a:gs pos="50000">
                  <a:srgbClr val="c19341"/>
                </a:gs>
                <a:gs pos="100000">
                  <a:srgbClr val="a27c3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f7625"/>
                </a:gs>
                <a:gs pos="50000">
                  <a:srgbClr val="eb9f17"/>
                </a:gs>
                <a:gs pos="100000">
                  <a:srgbClr val="cf7625"/>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c4a2e"/>
                </a:gs>
                <a:gs pos="50000">
                  <a:srgbClr val="60a265"/>
                </a:gs>
                <a:gs pos="100000">
                  <a:srgbClr val="2c4a2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f7625"/>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f7625"/>
                </a:gs>
                <a:gs pos="50000">
                  <a:srgbClr val="eb9f17"/>
                </a:gs>
                <a:gs pos="100000">
                  <a:srgbClr val="cf762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000000"/>
                </a:gs>
                <a:gs pos="50000">
                  <a:srgbClr val="cf7625"/>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00000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BB4B-5F88-45D7-993E-C99CCA15F3B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7953480" y="0"/>
              <a:ext cx="1203120" cy="6858000"/>
            </a:xfrm>
            <a:prstGeom prst="rect">
              <a:avLst/>
            </a:prstGeom>
            <a:gradFill rotWithShape="0">
              <a:gsLst>
                <a:gs pos="0">
                  <a:srgbClr val="a27c36"/>
                </a:gs>
                <a:gs pos="50000">
                  <a:srgbClr val="c19341"/>
                </a:gs>
                <a:gs pos="100000">
                  <a:srgbClr val="a27c3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f7625"/>
                </a:gs>
                <a:gs pos="50000">
                  <a:srgbClr val="eb9f17"/>
                </a:gs>
                <a:gs pos="100000">
                  <a:srgbClr val="cf7625"/>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c4a2e"/>
                </a:gs>
                <a:gs pos="50000">
                  <a:srgbClr val="60a265"/>
                </a:gs>
                <a:gs pos="100000">
                  <a:srgbClr val="2c4a2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f7625"/>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f7625"/>
                </a:gs>
                <a:gs pos="50000">
                  <a:srgbClr val="eb9f17"/>
                </a:gs>
                <a:gs pos="100000">
                  <a:srgbClr val="cf762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000000"/>
                </a:gs>
                <a:gs pos="50000">
                  <a:srgbClr val="cf7625"/>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00000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4F04-B891-4805-9A1D-179187DDECB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youtu.be/yDi3an8WgN4"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f7625"/>
                </a:solidFill>
                <a:latin typeface="Arial"/>
              </a:rPr>
              <a:t>MOVIE CRITIQUE:</a:t>
            </a:r>
            <a:br>
              <a:rPr sz="2800"/>
            </a:br>
            <a:r>
              <a:rPr b="0" lang="en-US" sz="4000" spc="-1" strike="noStrike">
                <a:solidFill>
                  <a:srgbClr val="cf7625"/>
                </a:solidFill>
                <a:latin typeface="Arial"/>
              </a:rPr>
              <a:t>THE KARATE KID</a:t>
            </a:r>
            <a:br>
              <a:rPr sz="4000"/>
            </a:br>
            <a:r>
              <a:rPr b="0" lang="en-US" sz="4000" spc="-1" strike="noStrike">
                <a:solidFill>
                  <a:srgbClr val="cf7625"/>
                </a:solidFill>
                <a:latin typeface="Arial"/>
              </a:rPr>
              <a:t>1984</a:t>
            </a:r>
            <a:endParaRPr b="0" lang="en-US" sz="4000" spc="-1" strike="noStrike">
              <a:solidFill>
                <a:srgbClr val="f7d47d"/>
              </a:solidFill>
              <a:latin typeface="Arial"/>
            </a:endParaRPr>
          </a:p>
        </p:txBody>
      </p:sp>
      <p:sp>
        <p:nvSpPr>
          <p:cNvPr id="193" name="PlaceHolder 2"/>
          <p:cNvSpPr>
            <a:spLocks noGrp="1"/>
          </p:cNvSpPr>
          <p:nvPr>
            <p:ph type="subTitle"/>
          </p:nvPr>
        </p:nvSpPr>
        <p:spPr>
          <a:xfrm>
            <a:off x="1981080" y="4648320"/>
            <a:ext cx="5640480" cy="17524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a265"/>
                </a:solidFill>
                <a:latin typeface="Arial"/>
              </a:rPr>
              <a:t>Yamira I. Serrano</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a265"/>
                </a:solidFill>
                <a:latin typeface="Arial"/>
              </a:rPr>
              <a:t>Prof.Evelyn Lugo</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a265"/>
                </a:solidFill>
                <a:latin typeface="Arial"/>
              </a:rPr>
              <a:t>English 126</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a265"/>
                </a:solidFill>
                <a:latin typeface="Arial"/>
              </a:rPr>
              <a:t>M/W 10:00-11:30 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he Karate Kid</a:t>
            </a:r>
            <a:endParaRPr b="0" lang="en-US" sz="4000" spc="-1" strike="noStrike">
              <a:solidFill>
                <a:srgbClr val="f7d47d"/>
              </a:solidFill>
              <a:latin typeface="Arial"/>
            </a:endParaRPr>
          </a:p>
        </p:txBody>
      </p:sp>
      <p:sp>
        <p:nvSpPr>
          <p:cNvPr id="195"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arate Kid is a movie that show us how a lonely, out-of-place kid triumphs against all the odds.</a:t>
            </a:r>
            <a:endParaRPr b="0" lang="en-US" sz="2400" spc="-1" strike="noStrike">
              <a:solidFill>
                <a:srgbClr val="ffffff"/>
              </a:solidFill>
              <a:latin typeface="Arial"/>
            </a:endParaRPr>
          </a:p>
        </p:txBody>
      </p:sp>
      <p:pic>
        <p:nvPicPr>
          <p:cNvPr id="196" name="il_fi" descr=""/>
          <p:cNvPicPr/>
          <p:nvPr/>
        </p:nvPicPr>
        <p:blipFill>
          <a:blip r:embed="rId2"/>
          <a:stretch/>
        </p:blipFill>
        <p:spPr>
          <a:xfrm>
            <a:off x="4114800" y="1600200"/>
            <a:ext cx="322092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28600" y="1142640"/>
            <a:ext cx="7386480" cy="51814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arate Kid is the tale of Daniel Laruso is a young man who, because of his mother’s need for a new job, is taken from Newark, New Jersey, to California.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first, Daniel seems to do alright but, before long, he crosses paths with Johnny the tough, rich leader of a group of karate students who attends Daniel's new school. The boy finds support in Miyagi. an aging handy-man who works at his apartment build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04920" y="837720"/>
            <a:ext cx="7386480" cy="44974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ggling for friends and failing to fit in, he become a friend of the old man. After enduring several beatings at the hands of Johnny and his gang, Daniel comes to learn that Miyagi, in fact, knows karate. Following a vain attempt to speak with Johnny's karate teacher about being left alone, Daniel is suddenly entered into the All-Valley Karate Tournament, where he will attempt to win the respect that Johnny and his gang have taken. As he trains for the karate tournament with Miyagi, Daniel learns invaluable lessons about life and love.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iterary Theory</a:t>
            </a:r>
            <a:endParaRPr b="0" lang="en-US" sz="40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ovie applies the literary theory  autobiographical.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vie tells the experiences of the young man Daniel La Rus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railer</a:t>
            </a:r>
            <a:endParaRPr b="0" lang="en-US" sz="4000" spc="-1" strike="noStrike">
              <a:solidFill>
                <a:srgbClr val="f7d47d"/>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9f17"/>
                </a:solidFill>
                <a:uFillTx/>
                <a:latin typeface="Arial"/>
                <a:hlinkClick r:id="rId2"/>
              </a:rPr>
              <a:t>http://youtu.be/yDi3an8WgN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2T00:15:30Z</dcterms:created>
  <dc:creator>Admin</dc:creator>
  <dc:description/>
  <dc:language>en-US</dc:language>
  <cp:lastModifiedBy>Admin</cp:lastModifiedBy>
  <dcterms:modified xsi:type="dcterms:W3CDTF">2011-05-12T00:50:45Z</dcterms:modified>
  <cp:revision>4</cp:revision>
  <dc:subject/>
  <dc:title>MOVIE CRITIQUE: THE KARATE KID 198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